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1954-094E-45E1-B069-7680B34E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7B3E-32D0-480E-8465-02074189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C368-0821-47B3-B642-9B4A7878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3DB7-8AF5-4715-A93C-5F0B09F2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3FAB-1CF8-4FA1-B353-A8FED550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EF32-33B8-4B7D-9DD9-6959D0C9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17D0-4F3C-4CBD-AEE8-A3D163D7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D17D-2A8F-4AE6-B87F-D427D50A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E4C3-3EEA-455F-857F-8798D832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CB66-8A6B-4C9B-B39B-CEC4E87C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DC26-C093-4237-B6E8-19166442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6672-FE01-4248-A04B-3B4AB476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62CF-16A2-45C1-ABA2-14AAE860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C303-DF9F-4779-ABA3-BDF4E194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8291-2ADB-4A99-A233-FA3C4FB3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447E-0B8C-441B-B672-4D6317DF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6D36-90B0-4ECA-8F76-48489AFD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B262-F5FA-4550-BF60-CFBD43F0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CCA8-9DED-4234-8379-38AFFC8B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1BC9-9BA7-4856-97E9-7FDE522D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873D-B2BA-436F-9084-6D10246C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041-3B9F-4D6E-8AE9-8E34FCC4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0CFD-904F-4AD9-B147-4CCB4654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7325-5CFB-4125-B73F-66E60EF2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8D34-BF3C-49A4-AC56-18B3444D2467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926C-9BE7-4168-B64F-4825779021AE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Coaching%20light_heavy.pdf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Report to Management Committe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47640" y="3962520"/>
            <a:ext cx="7345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 July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David Bur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News/Issues/Challeng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02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cc9900"/>
                </a:solidFill>
                <a:latin typeface="Arial"/>
              </a:rPr>
              <a:t>Data timeline for next set up data 29th August- VELS data Sem 1 currently being collected by coach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cc9900"/>
                </a:solidFill>
                <a:latin typeface="Arial"/>
              </a:rPr>
              <a:t>Specific issues being dealt with on case by case basis. Involvement of School Leadership Team, Team Leader and SEO in partnership with coach critical (case study to be discuss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cc9900"/>
                </a:solidFill>
                <a:latin typeface="Arial"/>
              </a:rPr>
              <a:t>Time provided for teachers to work with coach away from class- esp small primary schools and secondary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cc9900"/>
                </a:solidFill>
                <a:latin typeface="Arial"/>
              </a:rPr>
              <a:t>Some Coaches spread too thinly? Difficult to have impact if only at a school for one day per we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cc9900"/>
                </a:solidFill>
                <a:latin typeface="Arial"/>
              </a:rPr>
              <a:t>Need to think about schools we add/remove for 2009. What’s the criteria? How/when will this be decided? What will be our focus (year levels/curriculum areas)?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57200" y="279360"/>
          <a:ext cx="8229600" cy="585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9360"/>
                    <a:ext cx="822960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7236000" y="6237360"/>
            <a:ext cx="1368360" cy="360360"/>
          </a:xfrm>
          <a:prstGeom prst="leftArrow">
            <a:avLst>
              <a:gd name="adj1" fmla="val 50000"/>
              <a:gd name="adj2" fmla="val 9493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id-Year Progre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flection on mid-year progress with reference to the </a:t>
            </a:r>
            <a:r>
              <a:rPr b="0" i="1" lang="en-US" sz="3000" spc="-1" strike="noStrike">
                <a:solidFill>
                  <a:srgbClr val="6699ff"/>
                </a:solidFill>
                <a:latin typeface="Arial"/>
              </a:rPr>
              <a:t>‘Accountabilities – Teaching &amp; Learning Coaches’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framework (as presented by SMR on 20 December 20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o coach and mentor teachers in a one-to-one situation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15920"/>
            <a:ext cx="769608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All coaches are coaching teachers at their sch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Conversations based on protocols and data gath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Most now have obtained dedicated time to meet with their teachers- to set goals and reflect on lessons, data and plan curricul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Shift from </a:t>
            </a:r>
            <a:r>
              <a:rPr b="0" lang="en-US" sz="2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‘Coaching Light’ to ‘Coaching Heavy’ 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– digging deeper into teacher values and challenging pre-conce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To build teachers’ disciplinary and pedagogical content knowledge and their repertoire of high quality teaching practices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15920"/>
            <a:ext cx="769608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This is the focus of our ro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This is also being done through modelling and team teach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To collaborate with teachers to plan and deliver curriculum and to provide feedback on the quality of curriculum delivery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This is now happening in nearly all cases as conversations turn to the curriculum that underpins less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use of data 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has been a good vehicle to drive curriculum change as teachers reflect on the range of abilities in their classroom and the specific abilities/needs/misconceptions of individual students (some have been able to find extra time to plan curriculum changes to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400"/>
                            </p:stCondLst>
                            <p:childTnLst>
                              <p:par>
                                <p:cTn id="5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o support teachers to implement differentiation of curriculum to meet the diverse needs of students in their class.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6960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cc9900"/>
                </a:solidFill>
                <a:latin typeface="Arial"/>
              </a:rPr>
              <a:t>The </a:t>
            </a:r>
            <a:r>
              <a:rPr b="0" lang="en-AU" sz="26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use of data </a:t>
            </a:r>
            <a:r>
              <a:rPr b="0" lang="en-AU" sz="2600" spc="-1" strike="noStrike">
                <a:solidFill>
                  <a:srgbClr val="cc9900"/>
                </a:solidFill>
                <a:latin typeface="Arial"/>
              </a:rPr>
              <a:t>(eg On Demand testing &amp; AIM data) has helped ‘open the door’ for us and to persuade teachers of the need to build flexibility into classroom pract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cc9900"/>
                </a:solidFill>
                <a:latin typeface="Arial"/>
              </a:rPr>
              <a:t>Assessment for Learning in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To support teachers to develop rich assessment tasks and to utilise data effectively to inform curriculum planning and delivery and to monitor student learning.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025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cc9900"/>
                </a:solidFill>
                <a:latin typeface="Arial"/>
              </a:rPr>
              <a:t>This has been happening, particularly in a primary school setting. The shift has been to encourage mathematics to be at the centre of a rich task, rather than an after-though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cc9900"/>
                </a:solidFill>
                <a:latin typeface="Arial"/>
              </a:rPr>
              <a:t>This is still a challenge in a secondary school setting where no interdisciplinary Professional Learning Team networks exist but coaches working with teams in flexible learning spaces are experiencing succes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cc9900"/>
                </a:solidFill>
                <a:latin typeface="Arial"/>
              </a:rPr>
              <a:t>Good vehicle for ICT integration too, eg use of wiki, online tools and interactive whiteboa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To promote and implement existing DEECD policy and resources.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025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9900"/>
                </a:solidFill>
                <a:latin typeface="Arial"/>
              </a:rPr>
              <a:t>Focusing teachers on VELS and the progression points as well as the Assessment 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9900"/>
                </a:solidFill>
                <a:latin typeface="Arial"/>
              </a:rPr>
              <a:t>Use of Principles of Learning and Teaching component mapping and student survey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9900"/>
                </a:solidFill>
                <a:latin typeface="Arial"/>
              </a:rPr>
              <a:t>Use of resources such as maths domain page, Scaffolding Numeracy in the Middle Years, Numeract Interview, On Demand Testing, Digilearn, E-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9900"/>
                </a:solidFill>
                <a:latin typeface="Arial"/>
              </a:rPr>
              <a:t>Encouraging teams to apply for Teacher Professional Leav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9900"/>
                </a:solidFill>
                <a:latin typeface="Arial"/>
              </a:rPr>
              <a:t>A focus of team PD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Garamond"/>
              </a:rPr>
              <a:t>To assist participating schools to implement practices that sustain improvement beyond the funded period of the initiative.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025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9900"/>
                </a:solidFill>
                <a:latin typeface="Arial"/>
              </a:rPr>
              <a:t>Coaches have been working hard to ‘spread the word’ beyond the group of teachers they are working with, 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9900"/>
                </a:solidFill>
                <a:latin typeface="Arial"/>
              </a:rPr>
              <a:t>Helping to create partnerships between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9900"/>
                </a:solidFill>
                <a:latin typeface="Arial"/>
              </a:rPr>
              <a:t>Leadership of professional development sessions, eg On Demand Testing, Digilearn Resources, use of Interactive Whiteboard in 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9900"/>
                </a:solidFill>
                <a:latin typeface="Arial"/>
              </a:rPr>
              <a:t>Presentations to wider forums, Ed Ti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04:28:55Z</dcterms:created>
  <dc:creator>01751091</dc:creator>
  <dc:description/>
  <dc:language>en-US</dc:language>
  <cp:lastModifiedBy>burtond</cp:lastModifiedBy>
  <dcterms:modified xsi:type="dcterms:W3CDTF">2008-07-25T02:27:46Z</dcterms:modified>
  <cp:revision>22</cp:revision>
  <dc:subject/>
  <dc:title>Using On Demand Testing</dc:title>
</cp:coreProperties>
</file>